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03240" y="748800"/>
            <a:ext cx="4991040" cy="37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81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81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F92-6951-4AB8-8752-A8691348ED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82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1F92-606A-4A01-B062-96CF3362E09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82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246-BF78-49DE-B071-06730FC6F8C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82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C115-F9C7-48F8-B16F-F87ACAF0705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684-DEBC-4A59-9291-37F71841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285-B031-4FA3-AC91-ABF98FD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13C-85CF-45B4-AF2D-D46F726C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F8E-2E8C-41A4-AF58-F43D7A79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EBD5-5A79-4D82-9A30-F1BC7A37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3957-C869-46F1-9838-B7F1A14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134-EEAF-4D44-A5E1-3A4BD06B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9F16-F1D8-4255-8338-0E0B5D09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8BA1-7F97-4F18-8F80-F1C56D9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F9F7-5DF4-4867-9260-7D13E348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6A1-42A8-4011-BF09-ECAA083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F33-A01F-4433-9C26-6CA8F2B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DEEE-F6D6-4EA0-8386-C49A5C2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5BC0-AAAC-4EBF-B25A-7A239B6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7F3-12F6-475F-A8A1-DC0A1AC5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059-1A51-46A9-AC81-F77B0E99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F56F-988C-4A56-AFDB-F2C5D9B3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8B6-25E6-4EE2-AC16-A7A192B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0FB-3881-49D8-8B0D-0AB0D1D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79C-7D40-4499-9895-048F795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581-B1FE-4EFF-BE34-B2A3B98D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4F6-92D4-42AE-A30D-748267F2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242-510F-40A7-B378-86A8A84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51B-9B5C-4BA1-9646-E2D6FEE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041F-7381-4B17-8B32-14625B69A6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eeece1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eeece1"/>
                </a:solidFill>
                <a:latin typeface="Calibri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116-8987-4855-97B4-929E1DCB971F}" type="slidenum">
              <a:rPr b="0" lang="pt-BR" sz="1200" spc="-1" strike="noStrike">
                <a:solidFill>
                  <a:srgbClr val="eeece1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LUCIANA/Desktop/V&#205;DEOS/Luciana%20de%20Abreu%20School%20before%20XO.flv" TargetMode="External"/><Relationship Id="rId3" Type="http://schemas.openxmlformats.org/officeDocument/2006/relationships/hyperlink" Target="file:///C:/Documents%20and%20Settings/LUCIANA/Desktop/V&#205;DEOS/Luciana%20de%20Abreu%20School%20before%20XO.flv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57160" y="8568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Retângulo de cantos arredondados 12"/>
          <p:cNvGrpSpPr/>
          <p:nvPr/>
        </p:nvGrpSpPr>
        <p:grpSpPr>
          <a:xfrm>
            <a:off x="-49320" y="-304920"/>
            <a:ext cx="9558360" cy="7815240"/>
            <a:chOff x="-49320" y="-304920"/>
            <a:chExt cx="9558360" cy="7815240"/>
          </a:xfrm>
        </p:grpSpPr>
        <p:pic>
          <p:nvPicPr>
            <p:cNvPr id="130" name="Retângulo de cantos arredondados 12" descr=""/>
            <p:cNvPicPr/>
            <p:nvPr/>
          </p:nvPicPr>
          <p:blipFill>
            <a:blip r:embed="rId2"/>
            <a:stretch/>
          </p:blipFill>
          <p:spPr>
            <a:xfrm>
              <a:off x="-49320" y="-304920"/>
              <a:ext cx="9558360" cy="781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1920" y="-223920"/>
              <a:ext cx="9020160" cy="73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395280" y="1359000"/>
            <a:ext cx="8332920" cy="549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6453360"/>
            <a:ext cx="43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620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 É O 1º PASSO? QUE DIREÇÃO TOM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1º passo é d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          NTE          STE       PR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479600" cy="21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00000" y="1773360"/>
            <a:ext cx="1479600" cy="21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771640" y="1773360"/>
            <a:ext cx="1528920" cy="223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716360" y="1773360"/>
            <a:ext cx="1479600" cy="2160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6372360" y="2852640"/>
            <a:ext cx="50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2737080" cy="207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22100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419640" y="5013360"/>
            <a:ext cx="4572000" cy="145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56000" y="4508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Tablet – Serrana - 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859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JA - 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UCA = 1:1 -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todologia de trabalho por projetos de ensino (HERNÁNDEZ, 199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agem do mode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CIONISTA - CONSTRUTIVI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edagogia centrada no aluno - VYGOTSK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a de 150 mil laptops para 20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T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ciana de Abreu – antes do XO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into dia com o XO.f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8320" y="1600200"/>
            <a:ext cx="4038120" cy="1252080"/>
            <a:chOff x="4648320" y="1600200"/>
            <a:chExt cx="4038120" cy="1252080"/>
          </a:xfrm>
        </p:grpSpPr>
        <p:cxnSp>
          <p:nvCxnSpPr>
            <p:cNvPr id="152" name="_s118799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803280" y="1963440"/>
              <a:ext cx="250920" cy="52416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18796"/>
            <p:cNvCxnSpPr>
              <a:stCxn id="156" idx="0"/>
              <a:endCxn id="154" idx="2"/>
            </p:cNvCxnSpPr>
            <p:nvPr/>
          </p:nvCxnSpPr>
          <p:spPr>
            <a:xfrm flipV="1" rot="16200000">
              <a:off x="7327080" y="1439640"/>
              <a:ext cx="250920" cy="157212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18795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6280560" y="1964160"/>
              <a:ext cx="250920" cy="52308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18794"/>
            <p:cNvCxnSpPr>
              <a:stCxn id="160" idx="0"/>
              <a:endCxn id="154" idx="2"/>
            </p:cNvCxnSpPr>
            <p:nvPr/>
          </p:nvCxnSpPr>
          <p:spPr>
            <a:xfrm flipH="1" flipV="1" rot="5400000">
              <a:off x="5757120" y="1440720"/>
              <a:ext cx="250920" cy="156996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18790"/>
            <p:cNvSpPr/>
            <p:nvPr/>
          </p:nvSpPr>
          <p:spPr>
            <a:xfrm>
              <a:off x="6218640" y="160020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FR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8791"/>
            <p:cNvSpPr/>
            <p:nvPr/>
          </p:nvSpPr>
          <p:spPr>
            <a:xfrm>
              <a:off x="464832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8792"/>
            <p:cNvSpPr/>
            <p:nvPr/>
          </p:nvSpPr>
          <p:spPr>
            <a:xfrm>
              <a:off x="569520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8793"/>
            <p:cNvSpPr/>
            <p:nvPr/>
          </p:nvSpPr>
          <p:spPr>
            <a:xfrm>
              <a:off x="778932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SÍ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8798"/>
            <p:cNvSpPr/>
            <p:nvPr/>
          </p:nvSpPr>
          <p:spPr>
            <a:xfrm>
              <a:off x="674208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CANT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16360" y="2997360"/>
            <a:ext cx="4067280" cy="216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940360" y="836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s exemplos de comunidade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m, chat,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k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lide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iki (wikidot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IKISPA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gs (videologs, vlogs, tlogs, blog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casts (radio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co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IZI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ebconfer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s e plataformas virtuais de aprendizagem: teleduc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lackboard, aulanet, webct, wiziq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Trabalho com comunidade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Projeto MS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nucleo de tecnologias educaciona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www.uems.br/mood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www.portaldoprofessor.com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www.educarede.com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portal.mec.gov.br/TVesc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1" descr=""/>
          <p:cNvPicPr/>
          <p:nvPr/>
        </p:nvPicPr>
        <p:blipFill>
          <a:blip r:embed="rId1"/>
          <a:stretch/>
        </p:blipFill>
        <p:spPr>
          <a:xfrm>
            <a:off x="433440" y="365040"/>
            <a:ext cx="8558280" cy="6730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7272360" cy="511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549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O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8622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AF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 explicativo retangular com cantos arredondados 7"/>
          <p:cNvSpPr/>
          <p:nvPr/>
        </p:nvSpPr>
        <p:spPr>
          <a:xfrm>
            <a:off x="857160" y="1571760"/>
            <a:ext cx="7572600" cy="442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Qual é o nosso papel, como professor (a) em uma sociedade em constantes transformaçõ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BERÁ AO NÚCLEO DE TECNOLOGIAS EDUC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r o processo de implantação e implementação das S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r as atividades desenvolvidas pelos PS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ferecer capacitação continua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cer mecanismos de integração entre professor regente e professor da 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-se do grupo que desencadeia artic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4653000"/>
            <a:ext cx="1511280" cy="360360"/>
          </a:xfrm>
          <a:prstGeom prst="leftRightArrow">
            <a:avLst>
              <a:gd name="adj1" fmla="val 50000"/>
              <a:gd name="adj2" fmla="val 834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BERÁ AS SALAS DE TECNOLOGIAS EDUCA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recer suporte aos professores regentes na utilização, planejamento e desenvolvimento das atividades realizadas na S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os trabalhos desenvolvidos na STE, encaminhando semestralmente relatórios ao 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r de capacitações e eventos de divulgações oferecidos pelo 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rir carga horária destinada ao planejamento pedagógico e de utilização da S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balhar de acordo com o regimento escolar da es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r, planejar e desenvolver projetos de ensino em sua disciplina de forma interdisciplin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plano de ação, anualmente, a fim articular formação continuada junto aos professores reg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BERÁ AOS PROFESSORES RE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r e desenvolver atividades na STE, objetivando a efetividade e eficácia do processo de ensino e aprendizag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er registro das atividades desenvolvidas com as tecnologias educacion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zar-se pelo desenvolvimento das atividades na 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par das capacitações e eventos oferecidos pelo NTE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-se em processo de formação contínu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7580160" cy="410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1557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D      NTE      STE     Prof.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Prof.    STE    NTE      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38036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58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6728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48000" y="1700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detec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unções atribuídas aos professores das STEs pel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g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suporte à secretaria (mandar e.mail, formatar textos etc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suporte à coordenação pedagógica (digitar e imprimir convites,bilhetes para os pais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suporte ao professor regente (digitar e imprimir provas, procurar conteúdos da disciplina, preparar a aula, ministrar a au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ta de interesse quanto à formação continuada em Tecnologias Educacionais por parte dos professores rege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7416720" cy="531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028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a-se oferecer o mundo aos alu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6093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ê a SED? Cadê o NTE? Cadê a 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2:01:31Z</dcterms:created>
  <dc:creator>Fbaptista</dc:creator>
  <dc:description/>
  <dc:language>en-US</dc:language>
  <cp:lastModifiedBy>NTE LUCIANA</cp:lastModifiedBy>
  <dcterms:modified xsi:type="dcterms:W3CDTF">2008-08-13T11:45:26Z</dcterms:modified>
  <cp:revision>102</cp:revision>
  <dc:subject/>
  <dc:title>Slide 1</dc:title>
</cp:coreProperties>
</file>